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A4D-E6EB-4E7E-B47A-1E4ACA19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7F7-80C0-414A-9E5D-1C4090F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89D-4379-4851-8469-3ADA3AE0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DDE-33F5-4112-A17F-51B4B69B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85B-F13C-44E1-8CD7-BCA12BC7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545-84DB-4E5B-9888-4EC7FE35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8E6-0344-46A9-B527-71F5F68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217-C316-4B4B-AFD5-40001D6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D04-70D7-4049-908F-A3B57E38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72E-885C-4E36-8CB4-85FC668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595-AF31-4E7A-AED8-4FD0697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C13-84C9-47FF-B7A4-8C7E2B3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7BB-EEE3-44BF-BEDB-809C88C3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 helper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reg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finition of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-positive, alpha-beta 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6Z</dcterms:modified>
  <cp:revision>9</cp:revision>
  <dc:subject/>
  <dc:title>The Cell Ontology</dc:title>
</cp:coreProperties>
</file>